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3C6AA-2925-4550-B6A2-E126F794B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1163-6D64-4465-945E-9320FE3A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70954-6463-42B8-9255-2EF717897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E5CA6-2840-416F-9677-2F842C721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BD43A-F958-4679-ADD0-A36ACB81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16132-0D9B-40D5-86D1-048F9636B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8E3C-E408-4A45-AC51-8EDE66897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3EB6-3CDA-4413-9547-14CABC59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0B27-0C80-4970-8109-7E286DED8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0ACEC-443B-4AD1-B796-6F2D86E9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3CA7-629F-4694-8875-F31E6073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3491-81BB-41AF-AAF9-C178B472C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2D27-BBCE-4010-8829-AF8D0CD82EE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onlinegeography.wikispaces.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Cleethorpes coursework</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ta analysis – 22/10/09</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ke each site for the environmental survey  - describe and explain the answ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cribe the results of the questionna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each prediction you have made describe what the results show and how they relate to the hypothe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swer th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valuation – 23/10/09</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ection 1: Where is Cleethorpes/What is Cleethorpes like?</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orough description of Cleethorpes in terms of 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pecific location in the U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rrounding towns and c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specific site fac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ame of coun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hysical geography – rivers, relief, coastl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ragraph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ection 1: Where is Cleethorpes/What is Cleethorpes lik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cribe what the town of Cleethorpes is like in term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story of the town – Tour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pu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roads/transport connections – how do these help with tour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acilities/servi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3 – 3 way map</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a:t>
            </a:r>
            <a:r>
              <a:rPr b="0" lang="en-GB" sz="3000" spc="-1" strike="noStrike" baseline="30000">
                <a:solidFill>
                  <a:srgbClr val="000000"/>
                </a:solidFill>
                <a:latin typeface="Calibri"/>
              </a:rPr>
              <a:t>st</a:t>
            </a:r>
            <a:r>
              <a:rPr b="0" lang="en-GB" sz="3000" spc="-1" strike="noStrike">
                <a:solidFill>
                  <a:srgbClr val="000000"/>
                </a:solidFill>
                <a:latin typeface="Calibri"/>
              </a:rPr>
              <a:t> Map: On the A3 sheet I have given is a map of the UK. You should mark on key urban areas e.g Hull, London, Manchester and Cleethorp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a:t>
            </a:r>
            <a:r>
              <a:rPr b="0" lang="en-GB" sz="3000" spc="-1" strike="noStrike" baseline="30000">
                <a:solidFill>
                  <a:srgbClr val="000000"/>
                </a:solidFill>
                <a:latin typeface="Calibri"/>
              </a:rPr>
              <a:t>nd</a:t>
            </a:r>
            <a:r>
              <a:rPr b="0" lang="en-GB" sz="3000" spc="-1" strike="noStrike">
                <a:solidFill>
                  <a:srgbClr val="000000"/>
                </a:solidFill>
                <a:latin typeface="Calibri"/>
              </a:rPr>
              <a:t> Map: A regional map of the Cleethorpes area showing Leeds down to Lincol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a:t>
            </a:r>
            <a:r>
              <a:rPr b="0" lang="en-GB" sz="3000" spc="-1" strike="noStrike" baseline="30000">
                <a:solidFill>
                  <a:srgbClr val="000000"/>
                </a:solidFill>
                <a:latin typeface="Calibri"/>
              </a:rPr>
              <a:t>rd</a:t>
            </a:r>
            <a:r>
              <a:rPr b="0" lang="en-GB" sz="3000" spc="-1" strike="noStrike">
                <a:solidFill>
                  <a:srgbClr val="000000"/>
                </a:solidFill>
                <a:latin typeface="Calibri"/>
              </a:rPr>
              <a:t> Map: A local scale map showing Cleethorpes in more detai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 must have a title: 3-way map clearly locating Cleethorpes at a national, regional and local sca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 must have a scale bar for each ma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ims and Objectiv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aim is to answer the hypothe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objectives are the predi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ypothesis and predic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your hypothesis: The people living in the south of Cleethorpes will have a higher quality of life than those in the nor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hypothesis will be made up of a number of predictions (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ple prediction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ypothesis: The people living in the south of Cleethorpes will have a higher quality of life than those in the nort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e south there will be more detached ho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e south most people will own their own ho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e south there will be less vandalism than in the north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orth there will be more terraced ho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south most houses will 3 bedrooms or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orth, very few houses will ga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people in the south will have holidays abro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adlin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l deadline – 23/10/09</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ursework will be marked, assigned a preliminary grade and suggestions for improvements will be ma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 will then be given your coursework back and in your own time/time after school you can improve your coursewor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hould you fail to meet the final deadline, after school detentions will issued every week until you have caught up to the sufficient standar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w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people in central will have cars aged between 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orth there will be very little open sp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quality of lif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an we measure quality of li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state what quality of life 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state what criteria you are going to use to determine the areas quality of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heory</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r coursework will be based on a settlement so you will need to talk about the theories you have learnt about in this uni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are various land use zones recognised in MEDC settlements:</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entral Business District (CBD)</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Zone of transition (Industry)</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ner city (Lower class residential)</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ner suburbs (Middle class residential)</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uter suburbs (rural-urban fringe)</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suggest you lay it out like this...</a:t>
            </a:r>
            <a:endParaRPr b="0" lang="en-US" sz="4400" spc="-1" strike="noStrike">
              <a:solidFill>
                <a:srgbClr val="000000"/>
              </a:solidFill>
              <a:latin typeface="Calibri"/>
            </a:endParaRPr>
          </a:p>
        </p:txBody>
      </p:sp>
      <p:graphicFrame>
        <p:nvGraphicFramePr>
          <p:cNvPr id="86" name=""/>
          <p:cNvGraphicFramePr/>
          <p:nvPr/>
        </p:nvGraphicFramePr>
        <p:xfrm>
          <a:off x="1523880" y="1397160"/>
          <a:ext cx="6096240" cy="3474720"/>
        </p:xfrm>
        <a:graphic>
          <a:graphicData uri="http://schemas.openxmlformats.org/drawingml/2006/table">
            <a:tbl>
              <a:tblPr/>
              <a:tblGrid>
                <a:gridCol w="2032200"/>
                <a:gridCol w="2031840"/>
                <a:gridCol w="20322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and use zon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haracteristic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amples in Cleethor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B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 must give 5 characteristics for each urban zone. This includes types of housing, facilities and ameniti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 will be given a photocopy of an OS map. You will have to mark on the location of the zones on map. Write down the grid reference in this box and the name of the roa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model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a diagram of the Burges and Hoyt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down description of </a:t>
            </a:r>
            <a:r>
              <a:rPr b="1" lang="en-GB" sz="3200" spc="-1" strike="noStrike">
                <a:solidFill>
                  <a:srgbClr val="000000"/>
                </a:solidFill>
                <a:latin typeface="Calibri"/>
              </a:rPr>
              <a:t>both </a:t>
            </a:r>
            <a:r>
              <a:rPr b="0" lang="en-GB" sz="3200" spc="-1" strike="noStrike">
                <a:solidFill>
                  <a:srgbClr val="000000"/>
                </a:solidFill>
                <a:latin typeface="Calibri"/>
              </a:rPr>
              <a:t>mod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perty Research</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re are five main housing types in the Greater Grimsby are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tach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mi-detach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rrac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nga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lat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r each type of housing you have a picture, a description of the housing type and two examples of where you might find the different types of roads in Cleethorpes – road names and pric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eethorpes Coordinates survey</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an OS map of Cleethorp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each of the three wards you will look at in Cleethorpes you will need to identify examples of:</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men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pen spa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dern hous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rraced hous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ld part of Cleethorp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eethorpes Coordinates survey</a:t>
            </a:r>
            <a:endParaRPr b="0" lang="en-US" sz="4400" spc="-1" strike="noStrike">
              <a:solidFill>
                <a:srgbClr val="000000"/>
              </a:solidFill>
              <a:latin typeface="Calibri"/>
            </a:endParaRPr>
          </a:p>
        </p:txBody>
      </p:sp>
      <p:graphicFrame>
        <p:nvGraphicFramePr>
          <p:cNvPr id="94" name=""/>
          <p:cNvGraphicFramePr/>
          <p:nvPr/>
        </p:nvGraphicFramePr>
        <p:xfrm>
          <a:off x="1523880" y="1397160"/>
          <a:ext cx="6096240" cy="4770360"/>
        </p:xfrm>
        <a:graphic>
          <a:graphicData uri="http://schemas.openxmlformats.org/drawingml/2006/table">
            <a:tbl>
              <a:tblPr/>
              <a:tblGrid>
                <a:gridCol w="1524240"/>
                <a:gridCol w="1523880"/>
                <a:gridCol w="1523880"/>
                <a:gridCol w="15242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and us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rt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entr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eniti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ter the example e.g. School and the 6 figure grid reference e.g. 34967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n spac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dern hous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rraced hous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ld part of Cleethor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deadline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 – 11/9/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ology – 25/9/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presentation – 15/9/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analysis – 22/1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aluation and final deadline – 23/1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ilure to meet the deadlines will result in after school detentions being issued till you have finished the required s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lp session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ter school on Tuesdays there will be help sessions which will go on till 16: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r. McCrae and myself aim to be at each s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is incredibly important that you attend the sessions should you need help as coursework is worth 25% of your final gra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w websit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onlinegeography.wikispaces.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also contains all the materials you will need to help you rev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a coursework section where you can find hints and all the information that I have given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to used in conjunction with your revision guide(issued later) and exercise 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should be in each section?</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 – 11/9/09</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scription of Cleethorp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locate Cleethorpes  - map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3-way map</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hypothesi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redic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fine quality of lif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theor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Burgess and Hoyt model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haracteristics of different urban zon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erty gui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s surve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 25/9/09</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ta presentation – 15/9/09</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ly ch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r graphs for each si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pound bar grap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maps of central, north and south could use a variety of graphs to show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using type per ward using pie charts or bar char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drooms and pie char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hotographs – graphs on top of the photo</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27:11Z</dcterms:created>
  <dc:creator>Chris</dc:creator>
  <dc:description/>
  <dc:language>en-US</dc:language>
  <cp:lastModifiedBy>Chris</cp:lastModifiedBy>
  <dcterms:modified xsi:type="dcterms:W3CDTF">2009-08-31T13:44:55Z</dcterms:modified>
  <cp:revision>2</cp:revision>
  <dc:subject/>
  <dc:title>Year 11 Cleethorpes coursework</dc:title>
</cp:coreProperties>
</file>